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6;&#1105;&#1089;&#1090;&#1082;&#1080;&#1081;_&#1076;&#1080;&#1089;&#1082;" TargetMode="External"/><Relationship Id="rId4" Type="http://schemas.openxmlformats.org/officeDocument/2006/relationships/hyperlink" Target="http://ru.wikipedia.org/wiki/&#1046;&#1105;&#1089;&#1090;&#1082;&#1080;&#1081;_&#1076;&#1080;&#1089;&#1082;" TargetMode="External"/><Relationship Id="rId5" Type="http://schemas.openxmlformats.org/officeDocument/2006/relationships/hyperlink" Target="http://ru.wikipedia.org/wiki/&#1046;&#1105;&#1089;&#1090;&#1082;&#1080;&#1081;_&#1076;&#1080;&#1089;&#1082;" TargetMode="External"/><Relationship Id="rId6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7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8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, 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ания Western Digital разработала спецификацию ATAPI (ATA Packet Interface) для подключения к контроллеру IDE новых устройств хранения, подобных приводам CD-ROM и стриммерам. В традиционной компьютерной архитектуре использовался механизм переноса данных, основанный на регистрах. Современные варианты архитектуры используют механизм передачи на основе пакетов. ATAPI является расширением стандарта IDE, обеспечивающим возможность работы с пакетами. Спецификация ATAPI добавляет к IDE единственную новую команду, расширяющую функции контроллера, и две новых команды адрес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D421-A451-4E7D-8692-D99B43308A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B712-1C3A-455C-9BDF-FCFBA068D4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6360" y="1736640"/>
          <a:ext cx="8136000" cy="4062600"/>
        </p:xfrm>
        <a:graphic>
          <a:graphicData uri="http://schemas.openxmlformats.org/drawingml/2006/table">
            <a:tbl>
              <a:tblPr/>
              <a:tblGrid>
                <a:gridCol w="4422960"/>
                <a:gridCol w="371304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й 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только два д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четыре диска при двухканальном контроллере и допускает дальнейшее расши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использоваться только для подключения винчесте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возможность подключения устройств ATAPI (CD-ROM и стримме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кость диска не может превышать 528Мб в результате совместного использования BIOS Int 13 и спецификации 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ция LBA (Linear Block address) позволяет использовать диски размером до 8.4Г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обмена не может превышать 2-3 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жиме 3 PIO и режиме 1 DMA скорость обмена может достигать 13.3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9A0A-039C-4E8F-9221-EDDCF280C2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CBC7-2DC7-4D8F-8ED5-1FFCD57D09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098A-2B10-424A-9021-0725BAAE63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/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тандарты Ultra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жимы D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2D13-8CB3-45D2-A240-5A05A8BDE4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/ID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англ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Advanced Technology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рисоединение по продвинутой технологии) 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й интерфей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ключения накопителей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жёст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дис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оптичес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привод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к компьют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никшая в 1984 году у компаний Compaq и Western Digital идея IDE- контроллер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rated Disk Electr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заключается в том, что непосредственно сам интерфейсный контроллер встроен в электронику носителя (жесткого диска, например). При этом тот контроллер, к которому подключается диск, по сути дела не является полноценным устройством, а выполняет только функции сопряжения носителя с шиной. Идея оказалась достаточно удачной - цена на контроллер резко снизилась, а на жесткие диски поднялась незначительно. Интерфейс IDE также часто называют AT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иногда AT-BUS-контроллером. Современные чипсеты уже содержат IDE-контроллер и на материнской плате присутствуют соответсвующие разъемы. Если даже чипсет и не имеет IDE-микросхемы, то производители системных плат, как правило, ставят на плату внешний контроллер, так что пользователю IDE-интерфейс достается практически беспл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44E1-C35E-41F2-B48A-2E0257649D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TA Packet Interface) - стандарт, созданный с тем, чтобы позволить таким устройствам, как дисководы CD-ROM или стриммеры, подключаться напрямую к ATA-портам - дешево, и без необходимости специальных контроллеров, как это было ранее. Спецификация была разработана максимально заинтересованными лицами - группой производителей дисководов CD-ROM, с большой помощью от Western Digital и Oak Technology. В результате появления ATAPI-устройств, появилась возможность подключать дисководы CD-ROM и стримеры непосредственно к тому же шлейфу, к которому подключен и винчестер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ATAPI - это стандарт для CD-Rom'ов и стриммеров, позволяющий им работать с устройствами на основе IDE (ATA), такими как винчестеры, используя те же шлейфы и порты без каких-либо дополнительных контроллеров (если кто-то помнит, то ранее для этого требовался специальный контроллер, в качестве которого в ряде случаев могла выступать, например, звуковая пла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1B33-3979-4DA3-B2CD-357A7D34F9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34920" y="1521000"/>
          <a:ext cx="7516800" cy="3630600"/>
        </p:xfrm>
        <a:graphic>
          <a:graphicData uri="http://schemas.openxmlformats.org/drawingml/2006/table">
            <a:tbl>
              <a:tblPr/>
              <a:tblGrid>
                <a:gridCol w="1846080"/>
                <a:gridCol w="2833560"/>
                <a:gridCol w="1339920"/>
                <a:gridCol w="770040"/>
                <a:gridCol w="7272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MF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R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/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скорость об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/4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 в 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лючение других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екторов на дорож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узка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перации ввода-вывода осуществляются с использованием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е использ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задачный ввод-выв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ая коррекция ошиб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уровневое формат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7E45-77D9-4307-BEE1-ABD3F7DC26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воначальная версия стандарта IDE обеспечивала возможность подключения к компьютеру четырех винчестеров и позволяла обмениваться данными с диском на скорости до 10Мбайт/сек, однако реальная скорость ограничивалась прежде всего возможностями самого винчестера. Подключение четырех устройств, предусмотренное спецификацией IDE, в компьютерах семейства IBM PC AT, в спецификации ATA/IDE реализовано не было. Кроме того, совместное использование стандарта ATA и программного интерфейса Int 13 BIOS ограничивало размер дисковых устройств 528Мб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ookide2" descr=""/>
          <p:cNvPicPr/>
          <p:nvPr/>
        </p:nvPicPr>
        <p:blipFill>
          <a:blip r:embed="rId1"/>
          <a:stretch/>
        </p:blipFill>
        <p:spPr>
          <a:xfrm>
            <a:off x="2556000" y="1808280"/>
            <a:ext cx="4133880" cy="97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42480" y="2704680"/>
            <a:ext cx="599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диска IDE с операционной сис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067B-E089-4EC1-920C-59882E8CA8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два способа преодолеть ограничение размера д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способ заключается в использовании трансляции адресов CHS (цилиндр-головка-сектор) - пересчета реальных значений в фиктивные, удовлетворяющие ограничениям BIOS. Контроллер и BIOS используют в этом случае разную геометрию для адресации данных на диске. Если диск содержит 1500 секторов и имеет 16 головок, то в результате трансляции BIOS будет воспринимать его как устройство с 750 цилиндрами и 32 голов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Enhanced IDE использует другой метод, называемый логической адресацией блоков (LBA - Logical Block Address). В этом случае используется сквозная нумерация секторов и адрес CHS преобразуется в одно 28-битовое число, используемое для нумерации секторов - LBA-адрес. Метод LBA обеспечивает более эффективный способ работы с большими дисками за счет простоты преобразования адреса. Кроме того, этот способ представляется более эффективным при разработке новых операционных систем. Схема адресации с использованием LBA была впервые применена фирмой Western Digital в конце 1993 года, позволив создать диск IDE размеров 540Мб (модель AC25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125360"/>
            <a:ext cx="8496000" cy="522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дние стандарты ATA 66 (или ultra DMA/66, или UDMA/66) и ATA 100 (или ultra DMA/100, или udma/100) обеспечивают быструю передачу данных в пакетном и непрерывном режимах (66 и 100 Мбайт/с, соответственно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тандар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ltraD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E906-3E90-4406-B1E5-6A05E8896F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4000" y="1160640"/>
            <a:ext cx="4248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я режимы программируемого ввода-вывода (PIO) являются стандартным методом, поддерживаемым в серийных устройствах IDE, и отличаются высокой совместимостью, существуют и другие способы повышения скорости обмена с винчестерами. Метод прямого доступа к памяти (DMA) основан на передаче данных между диском и памятью компьютера без использования центрального процессора CPU). Тип B для DMA определен в спецификации EISA и обеспечивает обмен со скоростью 4Мб/сек. Этот метод дает преимущество по сравнению со стандартной скоростью для шины ISA, но значительно уступает Fast-SC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развитием технологии локальных шин в спецификации PCI был предложен новый вариант обмена с использованием DMA (тип F), обеспечивающий скорость 8.33 и 6.67Мб/сек. В соответствии с возможностями существующих микросхем была предложена спецификация DMA Mode 1 с циклом 150нсек., обеспечивающая скорость обмена 13Мб/сек. за счет передачи нескольких слов за один запрос. Комплекты микросхем с поддержкой DMA типа B (EISA) и типа F (PCI) поставляются с конца 199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EEE0-5DEF-49CF-A38C-6D664A632B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3:35:23Z</dcterms:modified>
  <cp:revision>94</cp:revision>
  <dc:subject/>
  <dc:title>Lecture Template </dc:title>
</cp:coreProperties>
</file>